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6F63-D710-49FF-8CDF-4A4FD35257C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8CB62-9720-4E59-B512-19406DE64C9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056BE-A39F-4486-98A4-B927153D10C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0BB45-E4A4-4661-8479-405A30D90CE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46C78-9DCC-45F1-B783-0C91CE3ECF1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DF3E8-70D0-42C1-8A07-5A132A489A6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2E411-F092-4B10-A877-828785C97CF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C3118-325E-4E58-B4A1-84FDADD90A7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DFF5A-2F21-4D3D-B5EC-3EEC93277BD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9E35-5CC2-4590-BB4C-CAD9F60AC9E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BC65-6C03-47CF-B0DE-81B30895F89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941D5-CF5A-498C-B79D-1FDDD075A6B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C069-83B0-4EA6-A215-0832DE0BF60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3BB1A-13FA-42F6-832C-BA666D3BBE0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9AB5A-B539-494B-8EB4-49A0525FDAB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E7A8-7C88-4296-B3DC-0C5DBB039A0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B4213-56B8-484A-BF02-8FF5C3AB568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324EB-028A-4F82-8116-4ECE599ECE9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A074E-A9E5-4576-A725-6294B75181D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EA5E3-FEA6-4D2F-B4A4-04BDAF818E8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BF652-5D52-44B7-995E-55FDAB35C8C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D6240-C2A5-40D8-B8BE-AF2F7A2A0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A327E-4DE8-41EB-9170-3E7B8442D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3C78-1AF4-44AD-BD6A-544CE9DDC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A45B2-CC3D-40B8-92FB-CC55390960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DE9C6-CDBE-4D0C-BE6A-4D05C34E5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65B9E-5613-48D5-85A0-5DB2ADF4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0B746-92DA-47C8-9219-D6A0696AD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9807-EA4C-431D-AB91-81645F7C6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BC73-EACC-4646-AC24-BADED46AE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EAE5-A523-41F6-92F1-9DD4C1876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14D8F-EAC9-4CF6-96B2-F62A6EE28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AFF1A-8469-44C7-9BE5-96A9F3DCE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AC08FB-5A66-4B43-970B-72E34137B30A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507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αναιμία που προκαλείται από έλλειψη σιδήρου στον οργανισμό, εξαιτίας της οποίας επέρχεται διαταραχή στη σύνθεση της αιμοσφαιρίν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Είναι η συχνότερη διατροφική διαταραχή, με συχνή εμφάνιση στις αναπτυγμένες χώρε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α βρέφη και τα παιδιά στις ΗΠΑ φτάνει το 7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τις ηλικίες 16-19 ετών φτάνει το 19%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250920" y="260280"/>
          <a:ext cx="8893080" cy="6232680"/>
        </p:xfrm>
        <a:graphic>
          <a:graphicData uri="http://schemas.openxmlformats.org/drawingml/2006/table">
            <a:tbl>
              <a:tblPr/>
              <a:tblGrid>
                <a:gridCol w="3268440"/>
                <a:gridCol w="5624640"/>
              </a:tblGrid>
              <a:tr h="548640">
                <a:tc gridSpan="2">
                  <a:txBody>
                    <a:bodyPr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3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ΙΤΙΑ ΣΙΔΗΡΟΠΕΝΙΑΣ</a:t>
                      </a:r>
                      <a:endParaRPr b="0" lang="en-US" sz="3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ρόσληψ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Υποσιτι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Χορτοφαγ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ακρόχρονη νηστε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63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απορρόφη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χλωρυδρία (από φάρμακα ή γαστρίτιδα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ίωση περιοχής απορρόφησης (εγχειρήσεις, παθήσεις εντέρου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Β</a:t>
                      </a:r>
                      <a:r>
                        <a:rPr b="1" lang="el-GR" sz="2000" spc="-1" strike="noStrike" baseline="-25000">
                          <a:solidFill>
                            <a:srgbClr val="002060"/>
                          </a:solidFill>
                          <a:latin typeface="Calibri"/>
                        </a:rPr>
                        <a:t>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φυλικού οξέ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νεπάρκεια ενδογενούς παράγοντα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0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ες ανάγκε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Παιδιά, έφηβο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Κύ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Θηλασμό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6639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4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απώλε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Έμμηνος ρύ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γαστρεντερικού (φάρμακα, πολύποδες, φλεγμονώδεις νόσοι, </a:t>
                      </a:r>
                      <a:r>
                        <a:rPr b="1" lang="en-US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Ca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εντέρου, έλμινθες, κλ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285840" indent="-285840">
                        <a:buClr>
                          <a:srgbClr val="002060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ιμορραγίες ουροποιητικού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ΞΕΛΙΞ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108000" y="836280"/>
            <a:ext cx="9036000" cy="52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1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λάττωση αποθεμάτων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φεριτ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2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ξάλειψη αποθεμάτ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κορεσμού τρανσφερίνης &lt;1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Υπόχρωμα μικροκυτταρικά ερυθρά (↓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V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αιμοποίησης, ερυθροποίη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είωση διάρκειας ζωής ερυθρώ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ισο-, ποικιλλο-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3</a:t>
            </a:r>
            <a:r>
              <a:rPr b="0" lang="el-GR" sz="2800" spc="-1" strike="noStrike" u="sng" baseline="30000">
                <a:solidFill>
                  <a:srgbClr val="002060"/>
                </a:solidFill>
                <a:uFillTx/>
                <a:latin typeface="Calibri"/>
              </a:rPr>
              <a:t>ο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 στάδιο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: Εκσεσημασμένη υποχρω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          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ιδεινούμενη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νεπαρκής παραγωγή σιδηρούχων ενζύμων και πρωτεϊνών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ΕΣ ΕΚΔΗΛΩΣΕΙ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Κακουχία, μείωση δύναμης και αντοχής, αίσθημα παλμών,  δυσπνοια, κεφαλαλγία, ωχρότητα,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Σε παρατεταμένη σιδηροπενία, διαταραχές επιθηλιακών ιστών (νύχια, γωνιακή χειλίτιδα, στοματίτιδα, τριχόπτωση, ατροφική γαστρίτιδα, παγοφαγία κλ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11280" y="259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907560"/>
            <a:ext cx="8507520" cy="48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ριθμός ΔΕΚ φυσιολογικ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ρυθροκύτταρα μικρά και ωχρά (μικροκυττάρωση – ανισοκυττάρω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ος όγκος ερυθρών 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(MCV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έση πυκνότητα αιμοσφαιρίνης (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MCH)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ίδηρος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Φεριτίνη ορού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Σιδηροδεσμευτική ικανότητα τρανσφερίνης (ΤΙΒ</a:t>
            </a:r>
            <a:r>
              <a:rPr b="0" lang="en-US" sz="2800" spc="-1" strike="noStrike">
                <a:solidFill>
                  <a:srgbClr val="002060"/>
                </a:solidFill>
                <a:latin typeface="Calibri"/>
              </a:rPr>
              <a:t>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Σε βαρειά μορφή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ατοκρίτη – αιμοσφαιρί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Θρομβοκυττάρωση (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αιμοπεταλίω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 (2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002060"/>
                </a:solidFill>
                <a:uFillTx/>
                <a:latin typeface="Calibri"/>
              </a:rPr>
              <a:t>Στο μυελό των οστ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ύξηση ερυθρής σειράς με διαταραχή ωρίμαν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Αποκατάσταση επιπέδων σιδήρου με χορήγηση σιδήρου από το στόμα ή παρεντερικά, ΑΦΟΥ ΠΡΟΗΓΟΥΜΕΝΩΣ ΑΠΟΚΛΕΙΣΘΕΙ ΤΟ ΕΝΔΕΧΟΜΕΝΟ ΑΙΜΟΡΡΑΓΙΑ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Προληπτική χορήγηση σε μερικές περιπτώσεις αύξησης αναγκών (κύηση, βρεφική ηλικία κλπ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ΝΑΙΜΙΑ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ίναι η αναιμία που συνοδεύει παθολογικές καταστάσεις οι οποίες χαρακτηρίζονται από οξεία ή χρόνια ανοσολογική διέγερση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Λέγεται και «αναιμία της φλεγμονής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ΠΑΘΟΦΥΣΙΟΛΟΓΙΑ </a:t>
            </a:r>
            <a:br>
              <a:rPr sz="4000"/>
            </a:b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ΗΣ ΑΝΑΙΜΙΑΣ ΧΡΟΝΙΑΣ ΝΟΣΟΥ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ι εκδηλώσεις της αναιμίας οφείλονται σε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ομοιόστασης του σιδή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λάττωση διάρκειας ζωής ερυθρώ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πολλαπλασιασμού προδρόμων κυττάρων της ερυθρής σειρά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Διαταραχές στην παραγωγή και δράση της ερυθροποιητίν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ΟΡΙΣΜ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341360"/>
            <a:ext cx="8229600" cy="511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αιμία είναι η ελάττωση του αιματοκρίτη ή της αιμοσφαιρίνης ή του αριθμού των ερυθρών αιμοσφαιρίων σε επίπεδα κατώτερα τουλάχιστον κατά 10% της φυσιολογικής τιμής τους στον συγκεκριμένο πληθυσμό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ό μόνη της δεν είναι νόσος. Μπορεί να αποτελεί εκδήλωση μιας πολύ απλής και φυσιολογικής κατάστασης (π.χ. διατροφής χωρίς πολύ σίδερο) μέχρι μιας πολύ σοβαρής κατάστασης (π.χ. μετάστασης στα οστά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ΤΙΟΛΟΓ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Οξείες και χρόνιες λοιμώξεις</a:t>
            </a:r>
            <a:r>
              <a:rPr b="0" lang="el-GR" sz="2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νευμόνων, ενδοκαρδίτιδα, οστεομυελίτιδα, μηνιγγίτιδα, ηπατίτιδες κλπ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Χρόνια μη φλεγμονώδη νοσήματα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ρευματοειδής αρθρίτιδα, ρευματοειδής πυρετός, ερυθημετώδης λύκος, σαρκοείδωση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Κακοήθεις νόσοι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όγκοι, λεμφώματα, λευχαιμίες,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Άλλες καταστάσει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αλκοολική ηπατίτιδα, καρδιακή ανεπάρκεια, στεφανιαία νόσος, θρομβοφλεβίτιδ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Αριθμός ερυθρών:  Α:  4,7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7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3,8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-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5,2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x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10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6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/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mm</a:t>
            </a:r>
            <a:r>
              <a:rPr b="1" lang="el-GR" sz="24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αίματος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οσφαιρίνης: Α: 14-16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12-14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ΦΤ αιματοκρίτη:      Α: 42% - 52% (μ.ο. 47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          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Γ: 37% - 47% (μ.ο. 42%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Οι ΦΤ έχουν μέση τιμή και τυπική απόκλιση (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SD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1" lang="el-GR" sz="2400" spc="-1" strike="noStrike">
                <a:solidFill>
                  <a:srgbClr val="002060"/>
                </a:solidFill>
                <a:latin typeface="Calibri"/>
              </a:rPr>
              <a:t>(δηλαδή έχουν ένα εύρος τιμών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ΦΥΣΙΟΛΟΓΙΚΕΣ ΤΙΜΕΣ ΕΡΥΘΡΩΝ ΚΑΙ ΑΙΜΟΣΦΑΙΡΙΝΗΣ ΚΑΤΆ ΗΛΙΚ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νεογνά υψηλότερ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α βρέφη μει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ην προεφηβική ηλικία ίδιες στα δύο φύ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ε την ενηλικίωση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,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υς άνδρες: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ατοκρίτη 4-6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αύξηση αιμοσφαιρίνης κατά 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ΠΑΘΟΦΥΣΙΟΛΟΓΙΑ ΑΝΑΙΜΙ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692280"/>
            <a:ext cx="8578800" cy="54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ναιμία οδηγεί σε υποξία των ιστών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υποξία κινητοποιεί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τιρροπιστικούς μηχανισμούς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1. Αύξηση έκκρισης ερυθροποιητίνης (στους νεφρού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(στο πλάσμα αυξάνει μέχρι και 1000 φορές, ενώ στο μυελό των οστών μέχρι 6-8 φορέ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2. Μείωση της συγγένειας αιμοσφαιρίνης-οξυγόνου (ευκολότερη απελευθέρωση οξυγό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3. Μείωση κατανάλωσης οξυγόνου (αύξηση αναερόβιας γλυκόλυσ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4. Ανακατανομή αιμάτω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5. Αύξηση καρδιακής παροχ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6. Αύξηση ρυθμού αναπνοή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ΚΛΙΝΙΚΗ ΕΚΤΙΜΗ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ε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ταχεία εμφάνιση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ς (π.χ. λόγω μεγάλης απώλειας αίματος ή αιμόλυσης), εμφανίζεται κακουχία, ταχυκαρδία, αίσθημα παλμών, αίσθημα κόπωσης, μείωση δύναμης και αντοχής, δύσπνοια, κεφαλαλγία, ωχρότητα, κλ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ε βραδεία εμφάνιση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η συμπτωματολογία είναι ήπια λόγω αντιρροπιστικών μηχανισμώ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ΕΡΓΑΣΤΗΡΙΑΚΟΣ ΕΛΕΓΧΟΣ ΑΝΑΙΜΙΩΝ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826560" y="1599840"/>
            <a:ext cx="7859880" cy="485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ιματοκρίτης - Αιμοσφαιρίν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ρυθροκυτταρικοί δείκτ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Ολική σιδηροδεσμευτική ικανότητα (</a:t>
            </a:r>
            <a:r>
              <a:rPr b="1" lang="en-US" sz="3000" spc="-1" strike="noStrike">
                <a:solidFill>
                  <a:srgbClr val="002060"/>
                </a:solidFill>
                <a:latin typeface="Calibri"/>
              </a:rPr>
              <a:t>TIBC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Φερριτίνη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δικτυοερυθροκυττάρ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. λευκών – λευκοκυτταρικός τύπ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Αριθμός και ποιότητα αιμοπεταλίω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Μορφολογία ερυθρ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Calibri"/>
              </a:rPr>
              <a:t>Επίχρισμα βιοψίας μυελού οστώ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ΑΞΙΝΟΜΗΣΗ ΑΝΑΙΜΙΩ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179280" y="950760"/>
          <a:ext cx="8785440" cy="5927760"/>
        </p:xfrm>
        <a:graphic>
          <a:graphicData uri="http://schemas.openxmlformats.org/drawingml/2006/table">
            <a:tbl>
              <a:tblPr/>
              <a:tblGrid>
                <a:gridCol w="3745080"/>
                <a:gridCol w="5040360"/>
              </a:tblGrid>
              <a:tr h="4510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ΑΤΗΓΟΡ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ΑΝΑΙΜΙΕ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1379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ειωμένη παραγωγ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πεν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γαλοβ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πλασ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ναιμία χρονίας νόσο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9209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αυξημένη καταστροφή ερυθρών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(αιμολυτικές αναιμίες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Οξεία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Κληρονομική αιμολυτ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υτοάνοση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νδοκυτταρική αιμολυτ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Εξωκυτταρική αιμολυτική (ενδο-αγγεια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                                                     </a:t>
                      </a: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εξω-αγγειακή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8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πώλεια αίματο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Μεθαιμορραγική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65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μη αποδοτική ερυθροποίηση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Σιδηροβλαστικές αναιμί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016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Οφειλόμενες σε αιμοσφαιρινοπάθειε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α- και β-Μεσογεια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000" spc="-1" strike="noStrike">
                          <a:solidFill>
                            <a:srgbClr val="002060"/>
                          </a:solidFill>
                          <a:latin typeface="Calibri"/>
                        </a:rPr>
                        <a:t>- Δρεπανοκυτταρική αναιμία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ΣΙΔΗΡΟΠΕΝΙΚΗ ΑΝ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4:29:58Z</dcterms:created>
  <dc:creator>TEI LARISA</dc:creator>
  <dc:description/>
  <dc:language>en-US</dc:language>
  <cp:lastModifiedBy>Χρήστος</cp:lastModifiedBy>
  <dcterms:modified xsi:type="dcterms:W3CDTF">2013-06-05T06:18:37Z</dcterms:modified>
  <cp:revision>25</cp:revision>
  <dc:subject/>
  <dc:title>Παρουσίαση του PowerPoint</dc:title>
</cp:coreProperties>
</file>